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7760" y="228600"/>
            <a:ext cx="801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28600"/>
            <a:ext cx="801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152280"/>
            <a:ext cx="8686800" cy="6096240"/>
            <a:chOff x="152280" y="152280"/>
            <a:chExt cx="8686800" cy="6096240"/>
          </a:xfrm>
        </p:grpSpPr>
        <p:sp>
          <p:nvSpPr>
            <p:cNvPr id="2" name=""/>
            <p:cNvSpPr/>
            <p:nvPr/>
          </p:nvSpPr>
          <p:spPr>
            <a:xfrm>
              <a:off x="53316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152280"/>
              <a:ext cx="8534520" cy="12193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219320"/>
              <a:ext cx="80773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Fox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320" y="1155600"/>
            <a:ext cx="8991360" cy="4496040"/>
            <a:chOff x="76320" y="1155600"/>
            <a:chExt cx="8991360" cy="4496040"/>
          </a:xfrm>
        </p:grpSpPr>
        <p:grpSp>
          <p:nvGrpSpPr>
            <p:cNvPr id="44" name=""/>
            <p:cNvGrpSpPr/>
            <p:nvPr/>
          </p:nvGrpSpPr>
          <p:grpSpPr>
            <a:xfrm>
              <a:off x="76320" y="1155600"/>
              <a:ext cx="8991360" cy="4496040"/>
              <a:chOff x="76320" y="1155600"/>
              <a:chExt cx="8991360" cy="4496040"/>
            </a:xfrm>
          </p:grpSpPr>
          <p:sp>
            <p:nvSpPr>
              <p:cNvPr id="45" name=""/>
              <p:cNvSpPr/>
              <p:nvPr/>
            </p:nvSpPr>
            <p:spPr>
              <a:xfrm>
                <a:off x="761760" y="2298600"/>
                <a:ext cx="7391160" cy="3353040"/>
              </a:xfrm>
              <a:prstGeom prst="roundRect">
                <a:avLst>
                  <a:gd name="adj" fmla="val 16667"/>
                </a:avLst>
              </a:pr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4560" y="1155600"/>
                <a:ext cx="7162560" cy="9907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1600200"/>
                <a:ext cx="8991360" cy="1828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76320" y="3289320"/>
              <a:ext cx="83055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1752480" cy="75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Relationships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ara Pe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isch Custo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e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f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instead of a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for projects with a clearly defin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your Client 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ng your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he important points of your contract ver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n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client know ASA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ing technically complex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a change in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a new contact like a new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ings don’t work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clients’ expectations will be compatible with the way you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a timebomb in your program unless your contract says you may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client has everything they need to work with a new con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Fox Updat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outhwestf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will/will not have web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remember to fill out your eval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 of Peisch Custo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M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Editor for Web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columnist for CoDe and Fox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 using Fox since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focus will be on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methods - T&amp;M vs Fixe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of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you need a contr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s up misunderstandings before they becom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you and your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your client feel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legal re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a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ates for different types of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increase your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phone consul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ravel expen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expen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&amp; materials or Fixed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&amp; Materials vs. Fixed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rice may 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abilit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exibility for long-term or loosely defin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knows exactly what $$ to ex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ability for consul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clearly defined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a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and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you inv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payment d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 discount for early pay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late payment poli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s required?  How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a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is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client a secure feeling knowing that you will not take what you’ve learned to a compet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76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a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give away your tools of the tra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eating an app for a singl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probably retain th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eating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stomer will probably want th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 are complicated by use of third part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Demo</cp:lastModifiedBy>
  <dcterms:modified xsi:type="dcterms:W3CDTF">2004-09-15T01:47:14Z</dcterms:modified>
  <cp:revision>12</cp:revision>
  <dc:subject/>
  <dc:title>Slide 1</dc:title>
</cp:coreProperties>
</file>